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435-01D6-477B-9D66-7DD0B660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312-95ED-41A5-95B0-F0E2A797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183-4505-4E22-88C1-6279EEB2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409-7C7D-4BCA-81EA-A715D2D3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F247-21FE-43D9-A8A0-A087BFEB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375C-F591-4CCF-B81F-CB79706A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BB45-9112-46F0-AD08-9FA1328D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ACDA-EDDF-4E46-B670-48E6DEB3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E738-F4C7-4F5E-8D6A-947B410E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BFE6-52FE-4568-A80B-8AC0A30B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9D35-4AC4-437C-9314-3F76BA34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6B5-7D5D-4A5F-913F-A57A03E0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2490-B1FE-41E8-BE23-8B86BC1C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EC8C-B67A-4F81-BE9F-A0B54DA1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A30A-7708-4F7B-B757-94B57256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60FF-EAD8-4D2A-AED5-0B50D463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3CCF-39E8-487A-828E-66C7A847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9AE-0F85-4342-9033-0DF2411D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3F2-0902-4BF1-99F5-ECC6DC73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2E5-446E-468A-99CE-2E6E0501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75B-ECD4-49F2-A6F2-045BD56C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161-DA9A-4B5A-8C4D-443D122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4A5-5DD7-4078-8039-6CD63ED9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572-AF2B-45C4-B2D6-1B4CABFC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6B25-1A51-4CC9-9C5F-207D69ECE7BA}" type="slidenum">
              <a:rPr b="0" lang="pt-BR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DC2B-0E92-441F-AC70-7BE4A1CE6202}" type="slidenum">
              <a:rPr b="0" lang="pt-BR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sonsantos.files.wordpress.com/2007/10/windowslivewriterdaswirdweb30-a579networks3-thumb1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V&#205;DEOS/Wikis%20in%20Plain%20English.flv" TargetMode="External"/><Relationship Id="rId3" Type="http://schemas.openxmlformats.org/officeDocument/2006/relationships/hyperlink" Target="file:///F:/V&#205;DEOS/Wikis%20in%20Plain%20English.flv" TargetMode="External"/><Relationship Id="rId4" Type="http://schemas.openxmlformats.org/officeDocument/2006/relationships/hyperlink" Target="file:///F:/V&#205;DEOS/Wikis%20in%20Plain%20English.flv" TargetMode="External"/><Relationship Id="rId5" Type="http://schemas.openxmlformats.org/officeDocument/2006/relationships/hyperlink" Target="file:///F:/V&#205;DEOS/Wikis%20in%20Plain%20English.flv" TargetMode="External"/><Relationship Id="rId6" Type="http://schemas.openxmlformats.org/officeDocument/2006/relationships/hyperlink" Target="file:///F:/V&#205;DEOS/Wikis%20in%20Plain%20English.flv" TargetMode="External"/><Relationship Id="rId7" Type="http://schemas.openxmlformats.org/officeDocument/2006/relationships/hyperlink" Target="file:///F:/V&#205;DEOS/Wikis%20in%20Plain%20English.flv" TargetMode="External"/><Relationship Id="rId8" Type="http://schemas.openxmlformats.org/officeDocument/2006/relationships/hyperlink" Target="file:///F:/V&#205;DEOS/Wikis%20in%20Plain%20English.flv" TargetMode="Externa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teraturainglesaii.wikispaces.com/" TargetMode="External"/><Relationship Id="rId3" Type="http://schemas.openxmlformats.org/officeDocument/2006/relationships/hyperlink" Target="http://hiperhistoria.wikispaces.com/Colaborative+History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V&#205;DEOS/Aprendre%20a%20aprendre.flv" TargetMode="External"/><Relationship Id="rId3" Type="http://schemas.openxmlformats.org/officeDocument/2006/relationships/hyperlink" Target="file:///F:/V&#205;DEOS/Aprendre%20a%20aprendre.flv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O WIKI como ferramenta para construção de Portfólio Reflexivo online </a:t>
            </a:r>
            <a:br>
              <a:rPr sz="2400"/>
            </a:b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Profª. MSc. Azenaide A. S. Vieira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Profª. Carla Varela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O maior WIKI do mund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6264360" cy="430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59280" y="5877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www.wikipedia.org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BLOG OU WIKI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3500280"/>
            <a:ext cx="3600360" cy="2222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059280" y="5589720"/>
            <a:ext cx="1223640" cy="904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268360" y="2852640"/>
            <a:ext cx="2581560" cy="69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08720" y="1628640"/>
            <a:ext cx="4140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BLOGS</a:t>
            </a: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 são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Cronológic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Focam o moment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Mais ágei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Pessoais e opinativ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WIKIS</a:t>
            </a: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 são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Referenciais e cumulativ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Focados em aperfeiçoamento contínu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Enciclopédicos e neutr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WIKI NA EDUCAÇÃ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O professor medeia, os alunos escrevem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O saber é cumulativo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está sempre em construção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nunca se esgota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ode ser passado de uma turma a outra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O trabalho é colaborativ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é por definição coletivo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tem foco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tem divisão de tarefas e responsabilidades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00720" y="3645000"/>
            <a:ext cx="1873440" cy="14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Papel soci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O wiki é feito para todos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Ultrapassa a sala de aula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Pode ser uma vitrine da escola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EM SUM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Wikis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 in 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4"/>
              </a:rPr>
              <a:t>Plain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5"/>
              </a:rPr>
              <a:t> 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6"/>
              </a:rPr>
              <a:t>English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7"/>
              </a:rPr>
              <a:t>.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8"/>
              </a:rPr>
              <a:t>flv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WIKI EM SALA DE AUL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http://literaturainglesaii.wikispace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http://hiperhistoria.wikispaces.com/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AGORA VAMOS POR A MÃO NA MASSA! OU MELHOR, NO WIKI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Alguns conceito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80808"/>
                </a:solidFill>
                <a:latin typeface="Tahoma"/>
              </a:rPr>
              <a:t>O que é PORTFÓLIO?</a:t>
            </a: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 (FARIAS, 2003, p. 28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Trata-se de um porta-fólio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Documento formal que apresenta as experiências de aprendizagem fora da escola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Um material acumulado pelo desenvolvimento de um conjunto de ações de sucesso voltado ao melhor resultado de uma pesquisa ou de um trabalho;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O que é um PORTFÓLIO REFLEXIVO?</a:t>
            </a:r>
            <a:br>
              <a:rPr sz="4000"/>
            </a:b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É uma coletânea de documentos ligada a um texto seguindo uma lógica reflexiva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São coleções de informações importantes vindas de diversas fontes: livros, revistas, internet, jornais, entre outros, fundamentados em anotações escolares diárias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É uma estratégia, um diário de aprendizagem onde registramos constantemente nossas descobertas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QUAL O OBJETIVO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objetiva fazer uma reflexão crítica sobre o processo, visando a melhoria de competências, atitudes ou conhecimentos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2446200" cy="33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-17172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80808"/>
                </a:solidFill>
                <a:latin typeface="Tahoma"/>
              </a:rPr>
              <a:t>Por que usar o PORTFÓLIO REFLEXIVO na educação?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Aprender a aprender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Levantar hipóteses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Buscar alternativas e soluções possíveis para resolver problemas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Levar o aluno ao universo da pesquisa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Propiciar o registro, análise e acompanhamento das ações cotidianas no diário de aprendizage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80808"/>
                </a:solidFill>
                <a:latin typeface="Tahoma"/>
              </a:rPr>
              <a:t>CONTRIBUIÇÕES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Traz uma abordagem </a:t>
            </a:r>
            <a:r>
              <a:rPr b="1" lang="pt-BR" sz="3200" spc="-1" strike="noStrike">
                <a:solidFill>
                  <a:srgbClr val="080808"/>
                </a:solidFill>
                <a:latin typeface="Tahoma"/>
              </a:rPr>
              <a:t>CONSTRUTIVISTA</a:t>
            </a: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 de ensino (professor) e aprendizagem (aluno), com foco na </a:t>
            </a:r>
            <a:r>
              <a:rPr b="1" lang="pt-BR" sz="3200" spc="-1" strike="noStrike">
                <a:solidFill>
                  <a:srgbClr val="080808"/>
                </a:solidFill>
                <a:latin typeface="Tahoma"/>
              </a:rPr>
              <a:t>APRENDIZAGE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VÍDEOS\Aprender a aprender.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flv</a:t>
            </a: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Antes de falar de WIKI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80808"/>
                </a:solidFill>
                <a:latin typeface="Tahoma"/>
              </a:rPr>
              <a:t>Panorama histórico da WEB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4602240" cy="4941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63640" y="1817640"/>
            <a:ext cx="22320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Coisa para técnico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Coisa para grandes instituiçõ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Coisas para pouco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Relação unidirecional entre autor e seu públic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Eu falo, você entend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O que é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76360" y="1773360"/>
            <a:ext cx="4319640" cy="3484440"/>
            <a:chOff x="1476360" y="1773360"/>
            <a:chExt cx="4319640" cy="348444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476360" y="1773360"/>
              <a:ext cx="4319640" cy="34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1476360" y="1773360"/>
              <a:ext cx="4319640" cy="34844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Tahoma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940360" y="1773360"/>
            <a:ext cx="341964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Não é uma tecnologi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É um conceit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É uma visão de mund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É criação bidirecional de conteúd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O público passa a ser co-auto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O WIKI traz um conceito de web 2.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O que é WIKI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2946240" cy="2832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390920" y="1341360"/>
            <a:ext cx="475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 </a:t>
            </a:r>
            <a:r>
              <a:rPr b="0" lang="pt-BR" sz="2400" spc="-1" strike="noStrike">
                <a:solidFill>
                  <a:srgbClr val="080808"/>
                </a:solidFill>
                <a:latin typeface="Verdana"/>
                <a:ea typeface="Arial"/>
              </a:rPr>
              <a:t>Do idioma havaiano: wiki wiki, muito rápido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Verdana"/>
                <a:ea typeface="Arial"/>
              </a:rPr>
              <a:t> </a:t>
            </a:r>
            <a:r>
              <a:rPr b="0" lang="pt-BR" sz="2400" spc="-1" strike="noStrike">
                <a:solidFill>
                  <a:srgbClr val="080808"/>
                </a:solidFill>
                <a:latin typeface="Verdana"/>
                <a:ea typeface="Arial"/>
              </a:rPr>
              <a:t>Ferramenta de publicação coletiva na Internet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Verdana"/>
                <a:ea typeface="Arial"/>
              </a:rPr>
              <a:t>Colaboração + revisão + simplicidade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Verdana"/>
                <a:ea typeface="Arial"/>
              </a:rPr>
              <a:t>Novo paradigma ao PORTFÓLIO REFLEXIVO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23:15:33Z</dcterms:created>
  <dc:creator>User</dc:creator>
  <dc:description/>
  <cp:keywords/>
  <dc:language>en-US</dc:language>
  <cp:lastModifiedBy>Luciana</cp:lastModifiedBy>
  <dcterms:modified xsi:type="dcterms:W3CDTF">2008-06-16T23:03:43Z</dcterms:modified>
  <cp:revision>8</cp:revision>
  <dc:subject/>
  <dc:title>O WIKI como ferramenta para construção de Portfólio Reflexivo online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6</vt:lpwstr>
  </property>
</Properties>
</file>